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7886-3552-43DD-9949-A2B09D41D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ED0-A000-46C6-87FD-4F2E35C9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737-4197-4B3F-8389-54D99979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B2F-DEA7-47EA-AF66-58021473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4AF-1FF3-4E31-9475-A87F1351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26A-A85D-451F-9703-7774B6A3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BDD-96C1-4B95-B992-B365E18F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CC5-A2C8-489E-8FFE-C4D52BB0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B64-A798-4F11-82F5-C65AB573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B4F-AFFC-462B-BF2C-DA2F1586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D95-61E5-4E6F-BA0E-B4B70ED4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16A-57A0-4F8F-A661-D66EECD7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A1E-CD88-4BEA-BB80-0FE7A843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F2A1-36D6-49E8-8BAB-3C7E9D559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/>
              <a:ahLst/>
              <a:rect l="l" t="t" r="r" b="b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/>
              <a:ahLst/>
              <a:rect l="l" t="t" r="r" b="b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78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/>
                <a:ahLst/>
                <a:rect l="l" t="t" r="r" b="b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/>
            <a:ahLst/>
            <a:rect l="l" t="t" r="r" b="b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/>
            <a:ahLst/>
            <a:rect l="l" t="t" r="r" b="b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 </dc:creator>
  <dc:description/>
  <dc:language>en-US</dc:language>
  <cp:lastModifiedBy>Legion</cp:lastModifiedBy>
  <dcterms:modified xsi:type="dcterms:W3CDTF">2017-01-26T10:33:05Z</dcterms:modified>
  <cp:revision>12</cp:revision>
  <dc:subject/>
  <dc:title>The Sun as an  Energy Source</dc:title>
</cp:coreProperties>
</file>